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2A805DD-4500-4D8E-933D-979EA15CCB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760" y="4549320"/>
            <a:ext cx="6118200" cy="50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introduction to RBM, emphasise that there are no absolutes in RBM – rather this is a rough typology to help them navigate – a guide – not a straightjack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columns of information appear in order, from left to right. The presenter introduces the results terminology from top to bottom (impact down to acti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arrows come in. The main message here is that there is a vertical logic of causality flowing between the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yellow column of examples emerge. These examples match the previous slide, so it is an opportunity to clarify again the levels and the caus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“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f – 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flags appear. Again, emphasise the vertical, causal logic of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ite column emerges to provide the overall focus of change for each level of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column then emerges, emphasising the rough timeframe for levels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red triangle emerges. Message: that collective accountability for results increases as they move up the chain of results. At the outcome level, no single agency is likely to be able to guarantee a result. Rather, the collective efforts of several agencies and partners will be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– the second level of outcome appears. This is the time to introduce the UN’s approach to RBM which has two levels of Outcome – UNDAF Outcome and contributing CP Outcomes. Point out that the second level of outcome is still an outcome level result (ie institutional/ behavioural; 5 years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it has a higher level of amb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move to the next slide to show them how these results fit into the Results Matri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4BA-6F89-479E-9649-6A3BBE37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840-1B19-4BC2-BFD6-C01E5372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004B-F1E6-48A2-B3F3-7570930F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928-97F2-430E-8130-C2035814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841-8587-4F0D-AB77-D1BD111D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63A-28BD-478E-BF1A-012FE5D2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6D0-6BA7-40A8-8519-1E7C2278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72F-6FA7-4B54-824C-0A1C2C50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447-0B87-4429-9EC7-3250FB8D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A35-25A8-42B0-9128-404855E0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036-4113-4234-8778-D498CBD6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DD3-1EA3-4ED7-8402-2F296D65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2AE5-12FB-4CDA-B116-83B9DFA965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752480"/>
            <a:ext cx="1524240" cy="4724640"/>
            <a:chOff x="152280" y="1752480"/>
            <a:chExt cx="1524240" cy="4724640"/>
          </a:xfrm>
        </p:grpSpPr>
        <p:sp>
          <p:nvSpPr>
            <p:cNvPr id="49" name=""/>
            <p:cNvSpPr/>
            <p:nvPr/>
          </p:nvSpPr>
          <p:spPr>
            <a:xfrm>
              <a:off x="152280" y="3733920"/>
              <a:ext cx="152424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280" y="17524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p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47242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571500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28800" y="175248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overty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733920"/>
            <a:ext cx="23623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3000 new small enterprises developed in poorest provi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4648320"/>
            <a:ext cx="2362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7 model business incubators operational in poorest provi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715000"/>
            <a:ext cx="25146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cquire facil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taff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icro-credit provision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762120"/>
            <a:ext cx="15242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762120"/>
            <a:ext cx="2286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ik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762120"/>
            <a:ext cx="1523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cus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990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762120"/>
            <a:ext cx="152388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frame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19920" y="1752480"/>
            <a:ext cx="1523880" cy="4724640"/>
            <a:chOff x="6019920" y="1752480"/>
            <a:chExt cx="1523880" cy="4724640"/>
          </a:xfrm>
        </p:grpSpPr>
        <p:sp>
          <p:nvSpPr>
            <p:cNvPr id="63" name=""/>
            <p:cNvSpPr/>
            <p:nvPr/>
          </p:nvSpPr>
          <p:spPr>
            <a:xfrm>
              <a:off x="6019920" y="571500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lt;1 yr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19920" y="47242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19920" y="3733920"/>
              <a:ext cx="1523880" cy="76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17524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-10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509960" y="990720"/>
            <a:ext cx="1753560" cy="5410080"/>
            <a:chOff x="7509960" y="990720"/>
            <a:chExt cx="1753560" cy="5410080"/>
          </a:xfrm>
        </p:grpSpPr>
        <p:sp>
          <p:nvSpPr>
            <p:cNvPr id="68" name=""/>
            <p:cNvSpPr/>
            <p:nvPr/>
          </p:nvSpPr>
          <p:spPr>
            <a:xfrm rot="10800000">
              <a:off x="7639920" y="990720"/>
              <a:ext cx="1369080" cy="5410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800">
              <a:off x="7854840" y="127764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540600">
              <a:off x="7928640" y="548640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258400">
              <a:off x="7557840" y="3203280"/>
              <a:ext cx="165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llective Account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1752480"/>
            <a:ext cx="1600200" cy="4038840"/>
            <a:chOff x="4343400" y="1752480"/>
            <a:chExt cx="1600200" cy="4038840"/>
          </a:xfrm>
        </p:grpSpPr>
        <p:sp>
          <p:nvSpPr>
            <p:cNvPr id="73" name=""/>
            <p:cNvSpPr/>
            <p:nvPr/>
          </p:nvSpPr>
          <p:spPr>
            <a:xfrm>
              <a:off x="4343400" y="3733920"/>
              <a:ext cx="15242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Institutional/ Behavioural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4724280"/>
              <a:ext cx="16002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Operational/ skills, abilities, products &amp;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1752480"/>
              <a:ext cx="15242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Human!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2743200"/>
            <a:ext cx="15242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74320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mployment and income generation incre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743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titutional/ Behavioural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743200"/>
            <a:ext cx="15238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rs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59400">
            <a:off x="304920" y="3428640"/>
            <a:ext cx="38088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29000"/>
            <a:ext cx="38124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91400">
            <a:off x="1371600" y="252864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066400">
            <a:off x="3962880" y="2369880"/>
            <a:ext cx="533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066400">
            <a:off x="3961080" y="32763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066400">
            <a:off x="3962880" y="434304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0066400">
            <a:off x="3962880" y="53337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91400">
            <a:off x="1371600" y="359532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991400">
            <a:off x="1371600" y="464796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991400">
            <a:off x="1371600" y="159984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1680" y="2434680"/>
            <a:ext cx="1146240" cy="3359520"/>
            <a:chOff x="301680" y="2434680"/>
            <a:chExt cx="1146240" cy="3359520"/>
          </a:xfrm>
        </p:grpSpPr>
        <p:sp>
          <p:nvSpPr>
            <p:cNvPr id="91" name=""/>
            <p:cNvSpPr/>
            <p:nvPr/>
          </p:nvSpPr>
          <p:spPr>
            <a:xfrm rot="10859400">
              <a:off x="304920" y="4419360"/>
              <a:ext cx="38088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59400">
              <a:off x="304920" y="54093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59400">
              <a:off x="304920" y="24375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6680" y="54100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4419720"/>
              <a:ext cx="38124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24382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Typology for RBM: Povert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0:10:13Z</dcterms:created>
  <dc:creator>kayijuka</dc:creator>
  <dc:description/>
  <dc:language>en-US</dc:language>
  <cp:lastModifiedBy>sandrone</cp:lastModifiedBy>
  <dcterms:modified xsi:type="dcterms:W3CDTF">2010-01-22T15:13:51Z</dcterms:modified>
  <cp:revision>5</cp:revision>
  <dc:subject/>
  <dc:title>PowerPoint Presentation</dc:title>
</cp:coreProperties>
</file>